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D22-11DF-4E6F-8007-64ABA087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3AE-5137-47DE-A2C6-9F412877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2FB-9A7B-4D36-A6ED-EF2B1C64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B5C-1E15-4485-AA95-BD747897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3B83-531A-4510-907B-5FC1F025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72E2-EF21-4115-AC7C-71F92702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49C0-74D4-46C2-9637-4350CE22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1AE3-4F5F-4623-8C95-253ADF6F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386F-2EBC-437A-A3AB-8DD62594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1AB2-414D-4B6E-BFC4-5211B931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C4DD-6364-402A-9AD1-B0E387BC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694-390A-416F-9D82-4F650A06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2D3F-92D5-4EC9-A935-BF6F503E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2642-6EC0-42A9-A772-959EE0AB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FBE2-D7DA-42C4-94F2-3DCF493F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7ADA-73C2-4608-BB6B-76927212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5C0D-599C-45B1-9C4C-B94E529F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B42-F232-4738-99A9-A679DB52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94F-937C-4156-9572-D2829477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033A-64F9-41A9-9064-A04B9DBD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A93-D7B3-4D09-9CE1-0C4F1884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FA6-F977-4549-9623-25F98E4B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ED6-1DAC-4BF4-97FF-CEA154B0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E2D-9C9E-4D73-9CD9-16F86867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C05F-D398-4E4E-9167-F64E991B6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60B1-3631-433B-B0C3-7F6C86461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 rot="21540000">
            <a:off x="323640" y="476280"/>
            <a:ext cx="8640720" cy="604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чники </a:t>
            </a:r>
            <a:endParaRPr b="1" i="1" lang="en-US" sz="5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лектрического </a:t>
            </a:r>
            <a:endParaRPr b="1" i="1" lang="en-US" sz="5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ка</a:t>
            </a:r>
            <a:endParaRPr b="1" i="1" lang="en-US" sz="5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920000" cy="5451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Устройство гальванических элементов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Гальванические элементы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4087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Музейная термопара с зеркальным гальванометром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9218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Солнечная батарея спутника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770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Аккумулятор электрический в двигателе автомобиля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17:33Z</dcterms:created>
  <dc:creator>User</dc:creator>
  <dc:description/>
  <dc:language>en-US</dc:language>
  <cp:lastModifiedBy>User</cp:lastModifiedBy>
  <dcterms:modified xsi:type="dcterms:W3CDTF">2008-01-09T21:48:02Z</dcterms:modified>
  <cp:revision>7</cp:revision>
  <dc:subject/>
  <dc:title>Слайд 1</dc:title>
</cp:coreProperties>
</file>